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BFE49-69CE-4EE4-9FD2-BC3088598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A207A-3D0D-4FEA-A710-A9B936B19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EBB19-D41E-4A54-A0C5-21347C8F5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9437C-DD54-4287-9A2F-D981FCE3C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39E47-35B6-451E-84E3-A2F9F9C9E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DDE04-4178-4CE7-9702-23B902ED1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C3D92-8B95-42B1-83F2-979BCD0D3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B1072-8DC9-4FFC-A5C5-8A50F48EF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D72D1-0E8D-459A-A6E5-AD421EAE5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ADBCC-A2BC-4A66-9F9C-7060A54FF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84A9D-CA14-46D2-AE7C-BA10B395F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76AFA-2CAB-4D44-86BE-95E628297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F3F7-CB7E-40D3-B85F-5824305EBE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Throw Shoot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rls total shots made was 15 and then had 55 that they miss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rls average was 2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ys made 35 shoots and missed 35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ys average was 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Application</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cause of error</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search</a:t>
            </a: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Spent</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s</a:t>
            </a: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oots better at free throws boys or gir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hose this testing because I wanted to see what would happen if boys go up against girls in free throw shooting percentage. There always seems to be competition between the gi5rls and bo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rmation</a:t>
            </a: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ketball was invented by Dr. James Naismith. A basketball court is 94ft. By 50ft. There is 19ft from the free throw line to the baseline and 15ft. To the rim. A men’s NBA basketball is 29 ½ to 29 ¾ in. An NCAA basketball’s maximum circumference is 30”. A woman's NBA basketball maximum circumference is 29” in the NCAA the maximum circumference is 29” with a weight of 20 o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continued </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n’s basketball weights 22 oz. The hoop is 19” in diameter and 10 ft. high. One tip for free throws shooting is to be consistent in your technique You should put your left hand on the side of the ball if you are a right hand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es </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edict boys will have a better shooting percentage than girls. </a:t>
            </a:r>
            <a:endParaRPr b="0" lang="en-US" sz="3200" spc="-1" strike="noStrike">
              <a:solidFill>
                <a:srgbClr val="000000"/>
              </a:solidFill>
              <a:latin typeface="Arial"/>
            </a:endParaRPr>
          </a:p>
        </p:txBody>
      </p:sp>
      <p:sp>
        <p:nvSpPr>
          <p:cNvPr id="52" name=""/>
          <p:cNvSpPr/>
          <p:nvPr/>
        </p:nvSpPr>
        <p:spPr>
          <a:xfrm>
            <a:off x="8908920" y="1157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s basketball</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 or pencil</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boys and 7 girl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ym/basketball floor and a hoop</a:t>
            </a:r>
            <a:endParaRPr b="0" lang="en-US" sz="3200" spc="-1" strike="noStrike">
              <a:solidFill>
                <a:srgbClr val="000000"/>
              </a:solidFill>
              <a:latin typeface="Arial"/>
            </a:endParaRPr>
          </a:p>
        </p:txBody>
      </p:sp>
      <p:sp>
        <p:nvSpPr>
          <p:cNvPr id="55" name=""/>
          <p:cNvSpPr/>
          <p:nvPr/>
        </p:nvSpPr>
        <p:spPr>
          <a:xfrm>
            <a:off x="5140440" y="798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all materi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layer will have 2 practice sho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will have 10 free thr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shooting percent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Observation</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eople where not trying to shoot the b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eople where trying to shoot the b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14:37:52Z</dcterms:created>
  <dc:creator>STERLING  USD376</dc:creator>
  <dc:description/>
  <dc:language>en-US</dc:language>
  <cp:lastModifiedBy>USD376</cp:lastModifiedBy>
  <dcterms:modified xsi:type="dcterms:W3CDTF">2011-03-10T20:21:59Z</dcterms:modified>
  <cp:revision>3</cp:revision>
  <dc:subject/>
  <dc:title>Free Throw Shooting</dc:title>
</cp:coreProperties>
</file>